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gif" ContentType="image/gi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CD6-EBCC-40EE-B148-26983B50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268-44A9-48A6-B1B6-B591023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05F-2FDB-443B-A72E-E5846C4F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B82-64CB-42DC-9893-5683D263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2809-AEE6-49BF-BC76-62A2443A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E3B8-E145-4D82-ADD8-9CC87445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227-9E03-4458-B197-52D22FC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00A4-98F7-4F78-B2AE-69576BA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682-2D73-4253-8966-B8C29DA1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3E1-83EE-450B-93E1-9FA07431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54FA-FD65-4F53-A838-780F2EB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337-2752-4EBD-ADF3-02AA1C2A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C307-1307-4CCF-81B5-44BB5DD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4EED-2E85-4B83-828E-4CC9E98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7487-AE28-4762-929E-F7C8057C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FEA7-727E-4775-8E1A-3C0ED7DD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BBAD-FDEB-4CA5-8FD9-46D744C0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64C-C81A-4220-A03F-C585691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8AF-BA34-40F6-8388-DDADAFB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474-69E5-46B1-AAA1-7692045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DE1-B2A7-440E-9187-6858F85E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1A9-9C0D-484A-BF5D-03C9EAD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6A1-84C1-46CD-ADEB-2164611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C7C-15B4-4B3E-8353-79A88981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4A8-8378-45D1-AC33-2E2C82543AAA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B4C-5F70-43EB-BA95-DE631A825E1A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727-5275-4AA6-B963-AC29DD996B4D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EDBB-BB76-4A5F-B883-49AF69A9428C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2.bp.blogspot.com/-96rckkDzm4w/TaRpnjXcIsI/AAAAAAAAAEI/TDM23kanjbM/s200/watchtv.gif&amp;imgrefurl=http://almuharrmi.blogspot.com/2011/04/watching-too-much-tv.html&amp;usg=__JYqK3J2XCY7V3aYtQkc1_VvVEro=&amp;h=451&amp;w=426&amp;sz=22&amp;hl=zh-CN&amp;start=6&amp;zoom=1&amp;tbnid=G3m6NGKvDcPPIM:&amp;tbnh=127&amp;tbnw=120&amp;ei=KZQEUouJDeWtiAeww4H4DQ&amp;prev=/search%3Fq%3Dwatch%2BTV%26newwindow%3D1%26safe%3Dstrict%26hl%3Dzh-CN%26gbv%3D2%26tbm%3Disch&amp;itbs=1&amp;sa=X&amp;ved=0CDUQrQMwBQ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752480" y="205740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40   Move Your Bod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3421031-169620-three-young-friends-go-for-a-walk-the-park"/>
          <p:cNvPicPr/>
          <p:nvPr/>
        </p:nvPicPr>
        <p:blipFill>
          <a:blip r:embed="rId1"/>
          <a:stretch/>
        </p:blipFill>
        <p:spPr>
          <a:xfrm>
            <a:off x="4267080" y="3962520"/>
            <a:ext cx="297180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4409"/>
          <p:cNvSpPr/>
          <p:nvPr/>
        </p:nvSpPr>
        <p:spPr>
          <a:xfrm>
            <a:off x="1268640" y="1587600"/>
            <a:ext cx="64321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id Ben and Tim often do before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oes Ben worry about T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es Ben send to T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03"/>
          <p:cNvSpPr/>
          <p:nvPr/>
        </p:nvSpPr>
        <p:spPr>
          <a:xfrm>
            <a:off x="16002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often played games outdoo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0"/>
          <p:cNvSpPr/>
          <p:nvPr/>
        </p:nvSpPr>
        <p:spPr>
          <a:xfrm>
            <a:off x="1600200" y="2971800"/>
            <a:ext cx="6477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cause Tim watches too much TV and plays too many computer gam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矩形 14411"/>
          <p:cNvSpPr/>
          <p:nvPr/>
        </p:nvSpPr>
        <p:spPr>
          <a:xfrm>
            <a:off x="1600200" y="4419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sends him a po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5361"/>
          <p:cNvSpPr/>
          <p:nvPr/>
        </p:nvSpPr>
        <p:spPr>
          <a:xfrm>
            <a:off x="838080" y="1600200"/>
            <a:ext cx="77724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 now Ben worries about Ti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是现在本担心蒂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15362"/>
          <p:cNvSpPr/>
          <p:nvPr/>
        </p:nvSpPr>
        <p:spPr>
          <a:xfrm>
            <a:off x="1143000" y="2514600"/>
            <a:ext cx="7238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orry about sb./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担心某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某事。也可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worried about sb./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某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某事担心，强调状态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ack’s mother is worried about his stud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克的妈妈为他的学习担心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6385"/>
          <p:cNvSpPr/>
          <p:nvPr/>
        </p:nvSpPr>
        <p:spPr>
          <a:xfrm>
            <a:off x="914400" y="720720"/>
            <a:ext cx="77724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He watches too much TV and plays too many computer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am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看了太多的电视，玩了太多的电脑游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16386"/>
          <p:cNvSpPr/>
          <p:nvPr/>
        </p:nvSpPr>
        <p:spPr>
          <a:xfrm>
            <a:off x="1295280" y="2359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o muc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多，跟不可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o many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多，跟可数名词复数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ork took me too much ti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份工作花了我太多时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5812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亮体重正在增加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Liang is _______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要为我担心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_____ _______ 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在户外玩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_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文本框 37894"/>
          <p:cNvSpPr/>
          <p:nvPr/>
        </p:nvSpPr>
        <p:spPr>
          <a:xfrm>
            <a:off x="2971800" y="2611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t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文本框 37899"/>
          <p:cNvSpPr/>
          <p:nvPr/>
        </p:nvSpPr>
        <p:spPr>
          <a:xfrm>
            <a:off x="2317680" y="3733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矩形 37907"/>
          <p:cNvSpPr/>
          <p:nvPr/>
        </p:nvSpPr>
        <p:spPr>
          <a:xfrm>
            <a:off x="3308400" y="373392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矩形 37908"/>
          <p:cNvSpPr/>
          <p:nvPr/>
        </p:nvSpPr>
        <p:spPr>
          <a:xfrm>
            <a:off x="4343400" y="261144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914"/>
          <p:cNvSpPr/>
          <p:nvPr/>
        </p:nvSpPr>
        <p:spPr>
          <a:xfrm>
            <a:off x="3429000" y="48006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915"/>
          <p:cNvSpPr/>
          <p:nvPr/>
        </p:nvSpPr>
        <p:spPr>
          <a:xfrm>
            <a:off x="4191120" y="480060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doo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16"/>
          <p:cNvSpPr/>
          <p:nvPr/>
        </p:nvSpPr>
        <p:spPr>
          <a:xfrm>
            <a:off x="5105520" y="261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2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0" name="文本框 33897"/>
          <p:cNvSpPr/>
          <p:nvPr/>
        </p:nvSpPr>
        <p:spPr>
          <a:xfrm>
            <a:off x="1143000" y="2622600"/>
            <a:ext cx="7086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朋友之间互相帮助非常重要。有没有哪个朋友曾帮过你呢？请你写下来表达对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的感谢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69639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Make hay while the sun shine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勿失良机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2" name="图片 69641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964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staying home or going ou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is good for you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09880" y="5380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es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i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7" descr="u=1820425866,461066280&amp;fm=23&amp;gp=0"/>
          <p:cNvPicPr/>
          <p:nvPr/>
        </p:nvPicPr>
        <p:blipFill>
          <a:blip r:embed="rId1"/>
          <a:srcRect l="0" t="4212" r="0" b="4212"/>
          <a:stretch/>
        </p:blipFill>
        <p:spPr>
          <a:xfrm>
            <a:off x="2209680" y="1722600"/>
            <a:ext cx="46483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43"/>
          <p:cNvSpPr/>
          <p:nvPr/>
        </p:nvSpPr>
        <p:spPr>
          <a:xfrm>
            <a:off x="3809880" y="5181480"/>
            <a:ext cx="1447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图片 48149" descr="u=3521831155,4143020421&amp;fm=29&amp;gp=0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26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5300" descr="u=603831767,3219628046&amp;fm=23&amp;gp=0"/>
          <p:cNvPicPr/>
          <p:nvPr/>
        </p:nvPicPr>
        <p:blipFill>
          <a:blip r:embed="rId1"/>
          <a:stretch/>
        </p:blipFill>
        <p:spPr>
          <a:xfrm>
            <a:off x="1752480" y="1143000"/>
            <a:ext cx="541044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55301"/>
          <p:cNvSpPr/>
          <p:nvPr/>
        </p:nvSpPr>
        <p:spPr>
          <a:xfrm>
            <a:off x="3581280" y="5334120"/>
            <a:ext cx="3505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outdoo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6324" descr="u=3656027056,486341841&amp;fm=23&amp;gp=0"/>
          <p:cNvPicPr/>
          <p:nvPr/>
        </p:nvPicPr>
        <p:blipFill>
          <a:blip r:embed="rId1"/>
          <a:stretch/>
        </p:blipFill>
        <p:spPr>
          <a:xfrm>
            <a:off x="2057400" y="11430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矩形 56325"/>
          <p:cNvSpPr/>
          <p:nvPr/>
        </p:nvSpPr>
        <p:spPr>
          <a:xfrm>
            <a:off x="3581280" y="51814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computer gam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3730"/>
          <p:cNvSpPr/>
          <p:nvPr/>
        </p:nvSpPr>
        <p:spPr>
          <a:xfrm>
            <a:off x="6327360" y="4114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TV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图片 73732" descr="ANd9GcQ1g18cVIKJT0NSJtbL0JoVdoCDFW6yBTTLdJD6sHv9PkMsSeOsJ39f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371600"/>
            <a:ext cx="4032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0658"/>
          <p:cNvSpPr/>
          <p:nvPr/>
        </p:nvSpPr>
        <p:spPr>
          <a:xfrm>
            <a:off x="3582720" y="53341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 for a wal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图片 70659" descr="3421031-169620-three-young-friends-go-for-a-walk-the-park"/>
          <p:cNvPicPr/>
          <p:nvPr/>
        </p:nvPicPr>
        <p:blipFill>
          <a:blip r:embed="rId1"/>
          <a:stretch/>
        </p:blipFill>
        <p:spPr>
          <a:xfrm>
            <a:off x="1752480" y="1219320"/>
            <a:ext cx="54864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8940"/>
          <p:cNvSpPr/>
          <p:nvPr/>
        </p:nvSpPr>
        <p:spPr>
          <a:xfrm>
            <a:off x="1066680" y="1066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38941"/>
          <p:cNvSpPr/>
          <p:nvPr/>
        </p:nvSpPr>
        <p:spPr>
          <a:xfrm>
            <a:off x="1143000" y="175248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Ben and Tim are good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Tim worries about Be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Tim is putting on weigh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Ben writes a po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42"/>
          <p:cNvSpPr/>
          <p:nvPr/>
        </p:nvSpPr>
        <p:spPr>
          <a:xfrm>
            <a:off x="1366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3"/>
          <p:cNvSpPr/>
          <p:nvPr/>
        </p:nvSpPr>
        <p:spPr>
          <a:xfrm>
            <a:off x="1371600" y="20574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4"/>
          <p:cNvSpPr/>
          <p:nvPr/>
        </p:nvSpPr>
        <p:spPr>
          <a:xfrm>
            <a:off x="137304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5"/>
          <p:cNvSpPr/>
          <p:nvPr/>
        </p:nvSpPr>
        <p:spPr>
          <a:xfrm>
            <a:off x="137340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8946" descr="l055"/>
          <p:cNvPicPr/>
          <p:nvPr/>
        </p:nvPicPr>
        <p:blipFill>
          <a:blip r:embed="rId1"/>
          <a:stretch/>
        </p:blipFill>
        <p:spPr>
          <a:xfrm>
            <a:off x="914400" y="5334120"/>
            <a:ext cx="739152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2:52Z</dcterms:created>
  <dc:creator/>
  <dc:description/>
  <dc:language>en-US</dc:language>
  <cp:lastModifiedBy>Administrator</cp:lastModifiedBy>
  <dcterms:modified xsi:type="dcterms:W3CDTF">2019-01-02T01:36:07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